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a nossa SA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779640" y="27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geme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ktionen und Proj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519280" y="1260360"/>
            <a:ext cx="521964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Allgeme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39840" indent="0">
              <a:lnSpc>
                <a:spcPct val="93000"/>
              </a:lnSpc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 ociedade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oi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 eninas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 en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olesc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ißt soviel wie: soziale Stütze für jugendliche Mädchen und J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24360" y="1444680"/>
            <a:ext cx="43894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3280" y="856800"/>
            <a:ext cx="907092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MMA ist ein gemeinnütziger Ver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urde 1994 mit Unterstützung von brasilianischen, deutschen und luxemburgischen Freunden gegrün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iel: Kindern und Jugendlichen, ohne Zuhause, eine neue Heimat und die Chance auf Entwicklung und Zukunft zu 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anzierung erfolgt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sschließli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über private Spenden und die ehrenamtliche Unterstü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: Spende eines Landhauses → mehr Möglichkeiten zur Entfaltung der K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gendliche werden bis zur Selbstständigkeit von SAMMA betre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Ha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251892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0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e kaputten Fenster eingeglast und gestrichen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0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ensterläden repariert und erneuer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0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ine neue Küche, Sitzbank mit Tisch selbst gebau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0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te vorhandene Möbel repariert, zur weiteren Nutzu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0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as undichte Dach abgebaut, ein neuer Dachstuhl gezimmert und mit neuen Ziegel eingedeck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0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rainage- und Abflussrohre verleg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680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as baufällige Nebengebäude gesichert und ebenfalls mit einem neuen Dach versehen, damit dort zusätzlich Unterricht stattfinden kan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80000" y="179280"/>
            <a:ext cx="3240360" cy="237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1600" y="0"/>
            <a:ext cx="366876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 Mithilfe der Kinder steht im Vordergr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e sind an jeder Aufbauaktion und Verbesser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 Hauses beteilig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K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Brasilien leben über 30 Mio. Minderjährige in  Arm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äter verlassen ihre Familien oder werden alkohol- oder drogenabhängig → Kinder halten Druck nicht aus und laufen von zu Hause w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SAMMA – Haus nimmt diese a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00360" y="7032600"/>
            <a:ext cx="3060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inder beim Lerne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6659640"/>
            <a:ext cx="2879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 hier beim Spi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61960" y="4859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683400" y="4765680"/>
            <a:ext cx="285732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Aktionen und Proje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inder für Kinder 200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endenprojekt für brasilianische Straßenkinder aus dem Kinderhaus SAM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aterprojekt, eine Musikalinzsenierung "König der Löwen" von der Verbandsschule Theres zugunsten der Samma im Juni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MMA-Spendentag mit exquisiter Weinverkostung vom Weingut Dr. Heig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Arial"/>
              </a:rPr>
              <a:t>WIR BRAUCHEN EURE HILFE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he</cp:lastModifiedBy>
  <dcterms:modified xsi:type="dcterms:W3CDTF">2010-05-06T06:09:13Z</dcterms:modified>
  <cp:revision>1</cp:revision>
  <dc:subject/>
  <dc:title>Para nossa SAMMA</dc:title>
</cp:coreProperties>
</file>